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48450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279440" cy="790560"/>
          </a:xfrm>
          <a:prstGeom prst="rect">
            <a:avLst/>
          </a:prstGeom>
          <a:ln w="0">
            <a:noFill/>
          </a:ln>
          <a:effectLst>
            <a:outerShdw dist="127008" dir="2216091" blurRad="0" rotWithShape="0">
              <a:srgbClr val="808080"/>
            </a:outerShdw>
          </a:effectLst>
        </p:spPr>
      </p:pic>
      <p:sp>
        <p:nvSpPr>
          <p:cNvPr id="1" name=""/>
          <p:cNvSpPr/>
          <p:nvPr/>
        </p:nvSpPr>
        <p:spPr>
          <a:xfrm>
            <a:off x="7496280" y="0"/>
            <a:ext cx="1647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lenary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360" y="655308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C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4149720"/>
            <a:ext cx="7165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NATIONAL  CLIMS  CA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uly 14th – July 28th, 20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lietz, Germ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073240" y="334800"/>
            <a:ext cx="5076720" cy="3140280"/>
          </a:xfrm>
          <a:prstGeom prst="rect">
            <a:avLst/>
          </a:prstGeom>
          <a:ln w="0">
            <a:noFill/>
          </a:ln>
          <a:effectLst>
            <a:outerShdw dist="341840" dir="2518156" blurRad="0" rotWithShape="0">
              <a:srgbClr val="808080"/>
            </a:outerShdw>
          </a:effectLst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ovéPole 6"/>
          <p:cNvSpPr/>
          <p:nvPr/>
        </p:nvSpPr>
        <p:spPr>
          <a:xfrm>
            <a:off x="244440" y="1255680"/>
            <a:ext cx="8899560" cy="52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rice: 400 EUR per participa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articipants 15 to 17 years o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apacity per country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1 group of 20 participants with 2 group lea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Group leaders (2) free of charge per group of 20 pers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dditional participants/groups on reque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dditional group leaders subject to pay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ransfers from / to Airport(s) BERLIN &amp; Railway Station  BERLIN, RATHENOW or STEND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ovéPole 1"/>
          <p:cNvSpPr/>
          <p:nvPr/>
        </p:nvSpPr>
        <p:spPr>
          <a:xfrm>
            <a:off x="2489040" y="8031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ner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ovéPole 2"/>
          <p:cNvSpPr/>
          <p:nvPr/>
        </p:nvSpPr>
        <p:spPr>
          <a:xfrm>
            <a:off x="755640" y="33577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ovéPole 6"/>
          <p:cNvSpPr/>
          <p:nvPr/>
        </p:nvSpPr>
        <p:spPr>
          <a:xfrm>
            <a:off x="114480" y="1911240"/>
            <a:ext cx="87184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at 21.07.2012 – Mon 23.07.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cebreak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ccommodation provided at </a:t>
            </a:r>
            <a:r>
              <a:rPr b="1" lang="de-DE" sz="2600" spc="-1" strike="noStrike">
                <a:solidFill>
                  <a:srgbClr val="000000"/>
                </a:solidFill>
                <a:latin typeface="Calibri"/>
              </a:rPr>
              <a:t>Land-gut-Hotel "Seeblick"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Calibri"/>
              </a:rPr>
              <a:t>Full boar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Calibri"/>
              </a:rPr>
              <a:t>Tour of the </a:t>
            </a:r>
            <a:r>
              <a:rPr b="1" lang="de-DE" sz="2600" spc="-1" strike="noStrike">
                <a:solidFill>
                  <a:srgbClr val="000000"/>
                </a:solidFill>
                <a:latin typeface="Calibri"/>
              </a:rPr>
              <a:t>IC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Calibri"/>
              </a:rPr>
              <a:t>Meeting with the ICC </a:t>
            </a:r>
            <a:r>
              <a:rPr b="1" lang="de-DE" sz="2600" spc="-1" strike="noStrike">
                <a:solidFill>
                  <a:srgbClr val="000000"/>
                </a:solidFill>
                <a:latin typeface="Calibri"/>
              </a:rPr>
              <a:t>staff &amp; </a:t>
            </a:r>
            <a:r>
              <a:rPr b="1" sz="2600" spc="-1" strike="noStrike">
                <a:solidFill>
                  <a:srgbClr val="000000"/>
                </a:solidFill>
                <a:latin typeface="Calibri"/>
              </a:rPr>
              <a:t>particip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ransfer from / to Airport(s) BERLIN &amp; Railway Stations BERLIN, RATHENOW and STEND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ovéPole 1"/>
          <p:cNvSpPr/>
          <p:nvPr/>
        </p:nvSpPr>
        <p:spPr>
          <a:xfrm>
            <a:off x="2489040" y="8031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isitor’s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ovéPole 6"/>
          <p:cNvSpPr/>
          <p:nvPr/>
        </p:nvSpPr>
        <p:spPr>
          <a:xfrm>
            <a:off x="317520" y="1371600"/>
            <a:ext cx="86421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edical Cent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octor &amp; Assistant Doctor on 24 / 7 ba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urther military medical staff (tb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ivilian hospitals ( european insurance car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ovéPole 1"/>
          <p:cNvSpPr/>
          <p:nvPr/>
        </p:nvSpPr>
        <p:spPr>
          <a:xfrm>
            <a:off x="2612880" y="13644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dical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68640" y="3121200"/>
            <a:ext cx="4803840" cy="36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ovéPole 6"/>
          <p:cNvSpPr/>
          <p:nvPr/>
        </p:nvSpPr>
        <p:spPr>
          <a:xfrm>
            <a:off x="0" y="1639800"/>
            <a:ext cx="9144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15.01.20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nfirmation participation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01.02.20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National group coordinator form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31.03.20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formation on Staff Training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Host N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20.04.20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nfirmation of participation in th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aff Training + travel information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04.05. – 06.05.20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aff Training in Klietz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ovéPole 1"/>
          <p:cNvSpPr/>
          <p:nvPr/>
        </p:nvSpPr>
        <p:spPr>
          <a:xfrm>
            <a:off x="2641680" y="11736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y a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ovéPole 6"/>
          <p:cNvSpPr/>
          <p:nvPr/>
        </p:nvSpPr>
        <p:spPr>
          <a:xfrm>
            <a:off x="141120" y="1440000"/>
            <a:ext cx="890604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20.05.20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ists of participants &amp; group leade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&amp; travel information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15.06.20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nfirmation of participation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Visitor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´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 Days incl. travel information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20.06.20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ayment to our account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14.07. – 28.07.20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CC 2012 in KLIETZ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21.07. – 23.07.20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Visitor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´s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ays ICC 201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ovéPole 1"/>
          <p:cNvSpPr/>
          <p:nvPr/>
        </p:nvSpPr>
        <p:spPr>
          <a:xfrm>
            <a:off x="2641680" y="11736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y a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ovéPole 1"/>
          <p:cNvSpPr/>
          <p:nvPr/>
        </p:nvSpPr>
        <p:spPr>
          <a:xfrm>
            <a:off x="2317680" y="252720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50920" y="260280"/>
            <a:ext cx="654696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mall town of KLIETZ is located around 100 Km west of the capital Berlin, close to the river Elb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61800" y="1135080"/>
            <a:ext cx="8496360" cy="547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279440" cy="790560"/>
          </a:xfrm>
          <a:prstGeom prst="rect">
            <a:avLst/>
          </a:prstGeom>
          <a:ln w="0">
            <a:noFill/>
          </a:ln>
          <a:effectLst>
            <a:outerShdw dist="127008" dir="2216091" blurRad="0" rotWithShape="0">
              <a:srgbClr val="808080"/>
            </a:outerShdw>
          </a:effectLst>
        </p:spPr>
      </p:pic>
      <p:sp>
        <p:nvSpPr>
          <p:cNvPr id="46" name=""/>
          <p:cNvSpPr/>
          <p:nvPr/>
        </p:nvSpPr>
        <p:spPr>
          <a:xfrm>
            <a:off x="2031840" y="3800520"/>
            <a:ext cx="4324680" cy="7970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692400">
            <a:off x="3418200" y="3650760"/>
            <a:ext cx="1204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24040" y="368604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00640" y="446724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33840" y="394344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1080" y="4051440"/>
            <a:ext cx="1402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irpor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08680" y="4384800"/>
            <a:ext cx="119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ail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2400" y="401004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57360" y="4228920"/>
            <a:ext cx="486000" cy="276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038240" y="432396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23960" y="4686480"/>
            <a:ext cx="3876840" cy="123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447960" y="4191120"/>
            <a:ext cx="514440" cy="37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76240" y="227160"/>
            <a:ext cx="6677280" cy="6592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596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80" y="1657440"/>
            <a:ext cx="1714320" cy="3076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600" y="1762200"/>
            <a:ext cx="166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and-gut-Hot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"Seeblick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arr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371600" y="857160"/>
            <a:ext cx="2505240" cy="133344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81160" y="2838600"/>
            <a:ext cx="2971800" cy="16477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9640" y="3371760"/>
            <a:ext cx="2467080" cy="14382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43080" y="1190520"/>
            <a:ext cx="65469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ommodation will be provided in the barracks of the KLIETZ training area, the same location, where the 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CC took place in the year 200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181480" y="4762440"/>
            <a:ext cx="2503440" cy="1876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6600" y="3073320"/>
            <a:ext cx="1917360" cy="1438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132000" y="3068640"/>
            <a:ext cx="2148120" cy="1440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121440" y="2793960"/>
            <a:ext cx="2471760" cy="1657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568520" y="4724280"/>
            <a:ext cx="2560680" cy="171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2920" y="4692600"/>
            <a:ext cx="423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ff Training We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04th – May 06th,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t Land-gut-Hotel "Seeblick"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LIETZ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378240" y="819000"/>
            <a:ext cx="5645160" cy="375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881600" y="4708440"/>
            <a:ext cx="2889360" cy="1927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90360" y="1405080"/>
            <a:ext cx="3019680" cy="201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ovéPole 1"/>
          <p:cNvSpPr/>
          <p:nvPr/>
        </p:nvSpPr>
        <p:spPr>
          <a:xfrm>
            <a:off x="2517840" y="2221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2680" y="1071720"/>
            <a:ext cx="3930480" cy="2968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697360" y="676440"/>
            <a:ext cx="3257640" cy="4343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65000" y="3255840"/>
            <a:ext cx="4623120" cy="3470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71480" y="2581200"/>
            <a:ext cx="3143160" cy="173376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74760" y="317484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un @ the 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00640" y="4229280"/>
            <a:ext cx="2581560" cy="167616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38720" y="47656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ovéPole 1"/>
          <p:cNvSpPr/>
          <p:nvPr/>
        </p:nvSpPr>
        <p:spPr>
          <a:xfrm>
            <a:off x="2460600" y="2221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959360" y="1374840"/>
            <a:ext cx="4025880" cy="5365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16000" y="3225960"/>
            <a:ext cx="4298760" cy="3225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81000" y="1371600"/>
            <a:ext cx="4581720" cy="202896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24760" y="205092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vie Park Babels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Tb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ovéPole 1"/>
          <p:cNvSpPr/>
          <p:nvPr/>
        </p:nvSpPr>
        <p:spPr>
          <a:xfrm>
            <a:off x="2460600" y="2221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31920" y="1173240"/>
            <a:ext cx="2954160" cy="2216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38600" y="1649520"/>
            <a:ext cx="4286160" cy="3216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52760" y="676440"/>
            <a:ext cx="2286000" cy="136188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80000" y="1089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3640" y="419040"/>
            <a:ext cx="2543040" cy="202896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4280" y="1041480"/>
            <a:ext cx="13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s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43000" y="3691080"/>
            <a:ext cx="4029120" cy="2733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124160" y="4991040"/>
            <a:ext cx="3400560" cy="172404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09160" y="5365800"/>
            <a:ext cx="214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to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olfsburg (tb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ovéPole 1"/>
          <p:cNvSpPr/>
          <p:nvPr/>
        </p:nvSpPr>
        <p:spPr>
          <a:xfrm>
            <a:off x="2460600" y="2221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7960" y="1162080"/>
            <a:ext cx="3175200" cy="2381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352600" y="819000"/>
            <a:ext cx="1857600" cy="145764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22680" y="13082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487760" y="906480"/>
            <a:ext cx="3592440" cy="2697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516640" y="4021200"/>
            <a:ext cx="3479760" cy="2593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4120" y="3095640"/>
            <a:ext cx="2638440" cy="168588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07440" y="365112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p to Ber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014480" y="3870360"/>
            <a:ext cx="3666960" cy="2751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1080" y="5057640"/>
            <a:ext cx="1857240" cy="145764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6480" y="5510160"/>
            <a:ext cx="155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amp, bon fire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B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9:35:56Z</dcterms:created>
  <dc:creator>WolfgangSchuessler</dc:creator>
  <dc:description/>
  <dc:language>en-US</dc:language>
  <cp:lastModifiedBy>markuszaum</cp:lastModifiedBy>
  <dcterms:modified xsi:type="dcterms:W3CDTF">2011-09-21T08:35:28Z</dcterms:modified>
  <cp:revision>369</cp:revision>
  <dc:subject/>
  <dc:title>  International    CLIMS Camp 2004</dc:title>
</cp:coreProperties>
</file>