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5236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68DB-21D9-452D-9501-9DEC6CFD1A2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C634-D788-46D4-B471-E95E45BFDE8A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It’s also available to organize trekking through tourist trails in the mountains, coach exursions to Cracow or to breath taking salt mine in  Wieliczk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It is possible to have  raft trip by Dunajec River (what You can see on the picture) an d of course to visit Zakopa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C993-7265-4927-B61C-43B451251733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4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EEEF-745F-44BF-8501-B3EC5FBE3EAA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DF20-2646-4243-A0E3-D18F1FACEA89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0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B357-E9F7-4EF9-BE23-04750D2DC811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3F86-364C-4870-B466-1001D9683268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4C1B-2B1F-44C1-9CEC-4B12817906CF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93E4-BD56-4B52-8C27-558758A81CD5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0E9A-D5BD-48A2-9114-759AF1379FF0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2F8E-C5C7-4517-8FC6-928F0ADCFC05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2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97F2-3C15-4729-8301-BB9F0521D7CC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5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67EC-931F-42FD-98E1-7B1DB2E8EA01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D3C0-5CA3-4042-ADCD-AAB231EAA24E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142-5963-4E56-830A-A27FA626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30E-BDAA-43DB-8274-02A77358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B62-DE91-4DB0-9151-81267776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BB8-8F51-48BA-96E7-7E9D1E66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E275-5800-45F4-9A48-48C76CE0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B2E2-34DA-4FEE-BCC5-F6E8E558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1DDB-6E71-494C-8831-1198C43A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AA4A-EDDD-4757-8CCD-9190AB1B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E807-C16C-4102-89EB-63A981FB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9CC9-B615-4434-8F8C-7BCD50D7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6AA1-CD9D-4F07-9DD4-82B27472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C48-BC0D-4E04-8F1E-E8E8F626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FCBA-5A6F-4C0D-A8D6-0DF419B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6D34-F3DF-4ACC-9257-1BBD0CE8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FC93-2135-4477-BA46-640684F6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E142-C877-4975-813B-82A0C6DF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5874-27C7-4CAC-8A75-5960D017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7E0-A689-4E50-8D03-757ACAB6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3D6-2B08-47A6-8B20-35CCF6D7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EB4-D72E-4FB9-B8F4-308EAFF7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53A-B779-40E7-A7CD-579DD72E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F04-46E4-44DF-9458-86E43BF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105-2BD9-47AE-94A4-1D63C35F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FD5-385E-4F64-8302-DA1F7918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1535-6621-4FB7-93A0-2C25DF189D14}" type="slidenum">
              <a:rPr b="0" lang="pl-P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576A-2AA3-4B45-897E-CC7036952552}" type="slidenum">
              <a:rPr b="0" lang="pl-P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wmf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400480" y="428760"/>
            <a:ext cx="4343400" cy="2584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2200" y="3833280"/>
            <a:ext cx="8501040" cy="16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ATIONAL CLIMS CAMP</a:t>
            </a:r>
            <a:br>
              <a:rPr sz="4400"/>
            </a:br>
            <a:r>
              <a:rPr b="1" i="1" lang="pl-PL" sz="4400" spc="-1" strike="noStrike">
                <a:solidFill>
                  <a:srgbClr val="ffff00"/>
                </a:solidFill>
                <a:latin typeface="Times New Roman"/>
              </a:rPr>
              <a:t>ZAKOPANE-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LAND 2010</a:t>
            </a:r>
            <a:br>
              <a:rPr sz="4400"/>
            </a:b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ole tekstowe 5"/>
          <p:cNvSpPr/>
          <p:nvPr/>
        </p:nvSpPr>
        <p:spPr>
          <a:xfrm>
            <a:off x="5786280" y="63453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ungary,  October 200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66560" y="5589720"/>
            <a:ext cx="4465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Lt. Col. Arkadiusz SOCHAC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MINISTRY OF NATIONAL DEF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REPUBLIC OF POL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spływ dynajcem"/>
          <p:cNvPicPr/>
          <p:nvPr/>
        </p:nvPicPr>
        <p:blipFill>
          <a:blip r:embed="rId1"/>
          <a:stretch/>
        </p:blipFill>
        <p:spPr>
          <a:xfrm>
            <a:off x="6000840" y="4714920"/>
            <a:ext cx="2846160" cy="191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wieliczka kopalnia"/>
          <p:cNvPicPr/>
          <p:nvPr/>
        </p:nvPicPr>
        <p:blipFill>
          <a:blip r:embed="rId2"/>
          <a:stretch/>
        </p:blipFill>
        <p:spPr>
          <a:xfrm>
            <a:off x="357120" y="4714920"/>
            <a:ext cx="2895840" cy="1928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6360" y="754200"/>
            <a:ext cx="7272360" cy="38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urist highligh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xcursions on foot and by coach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4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Tatra Mountains  -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trekking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4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isiting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the city of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Zakopa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4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ooden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raf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rips by Dunajec Riv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4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isiting Royal City Cracow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NESCO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4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isiting Salt Mine Wieliczka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NESCO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11" descr="C:\Documents and Settings\sochackia\Moje dokumenty\Prezentacje opracowania\ICCLIMS ZAKOPANE 2010\zakopane galeria\15.bmp"/>
          <p:cNvPicPr/>
          <p:nvPr/>
        </p:nvPicPr>
        <p:blipFill>
          <a:blip r:embed="rId3"/>
          <a:stretch/>
        </p:blipFill>
        <p:spPr>
          <a:xfrm>
            <a:off x="3143160" y="471492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C:\Documents and Settings\sochackia\Moje dokumenty\Prezentacje opracowania\ICCLIMS ZAKOPANE 2010\zakopane galeria\17.bmp"/>
          <p:cNvPicPr/>
          <p:nvPr/>
        </p:nvPicPr>
        <p:blipFill>
          <a:blip r:embed="rId4"/>
          <a:stretch/>
        </p:blipFill>
        <p:spPr>
          <a:xfrm>
            <a:off x="6072120" y="785880"/>
            <a:ext cx="2681280" cy="3571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5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sp>
        <p:nvSpPr>
          <p:cNvPr id="225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Trollandia"/>
          <p:cNvPicPr/>
          <p:nvPr/>
        </p:nvPicPr>
        <p:blipFill>
          <a:blip r:embed="rId1"/>
          <a:stretch/>
        </p:blipFill>
        <p:spPr>
          <a:xfrm>
            <a:off x="6072120" y="642960"/>
            <a:ext cx="2384640" cy="17859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285840" y="1428840"/>
            <a:ext cx="4572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creation and spo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ble pa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mbing w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ycle excur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F:\ICCLIMS ZAKOPANE 2010\Zdjęcia\g__MG_9828.JPG"/>
          <p:cNvPicPr/>
          <p:nvPr/>
        </p:nvPicPr>
        <p:blipFill>
          <a:blip r:embed="rId3"/>
          <a:stretch/>
        </p:blipFill>
        <p:spPr>
          <a:xfrm>
            <a:off x="4191120" y="2427120"/>
            <a:ext cx="3000240" cy="1859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F:\ICCLIMS ZAKOPANE 2010\Zdjęcia\P1010502.JPG"/>
          <p:cNvPicPr/>
          <p:nvPr/>
        </p:nvPicPr>
        <p:blipFill>
          <a:blip r:embed="rId4"/>
          <a:stretch/>
        </p:blipFill>
        <p:spPr>
          <a:xfrm>
            <a:off x="5477040" y="428616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wspinaczkowa"/>
          <p:cNvPicPr/>
          <p:nvPr/>
        </p:nvPicPr>
        <p:blipFill>
          <a:blip r:embed="rId5"/>
          <a:stretch/>
        </p:blipFill>
        <p:spPr>
          <a:xfrm>
            <a:off x="976320" y="3929040"/>
            <a:ext cx="3782880" cy="2668680"/>
          </a:xfrm>
          <a:prstGeom prst="rect">
            <a:avLst/>
          </a:prstGeom>
          <a:ln w="0">
            <a:noFill/>
          </a:ln>
        </p:spPr>
      </p:pic>
      <p:sp>
        <p:nvSpPr>
          <p:cNvPr id="232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36680" y="1203120"/>
            <a:ext cx="8064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tertainment (recreation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Camp fi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highlander b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case of bad weather - projection of mov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2" descr="C:\Documents and Settings\sochackia\Moje dokumenty\Prezentacje opracowania\ICCLIMS ZAKOPANE 2010\zakopane galeria\6.bmp"/>
          <p:cNvPicPr/>
          <p:nvPr/>
        </p:nvPicPr>
        <p:blipFill>
          <a:blip r:embed="rId1"/>
          <a:stretch/>
        </p:blipFill>
        <p:spPr>
          <a:xfrm>
            <a:off x="4071960" y="371484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236" name="Obraz 1" descr="OGNISKO.TIF"/>
          <p:cNvPicPr/>
          <p:nvPr/>
        </p:nvPicPr>
        <p:blipFill>
          <a:blip r:embed="rId3"/>
          <a:stretch/>
        </p:blipFill>
        <p:spPr>
          <a:xfrm>
            <a:off x="857160" y="3214800"/>
            <a:ext cx="2857680" cy="19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7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785880" y="6177960"/>
            <a:ext cx="734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www.wzw.zakopane.p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rostokąt 2"/>
          <p:cNvSpPr/>
          <p:nvPr/>
        </p:nvSpPr>
        <p:spPr>
          <a:xfrm>
            <a:off x="539640" y="5130720"/>
            <a:ext cx="812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00"/>
                </a:solidFill>
                <a:latin typeface="Bernard MT Condensed"/>
              </a:rPr>
              <a:t>WELCOME TO ZAKOPAN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00"/>
                </a:solidFill>
                <a:latin typeface="Bernard MT Condensed"/>
              </a:rPr>
              <a:t>country of nature and beauty!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ytuł 1"/>
          <p:cNvSpPr/>
          <p:nvPr/>
        </p:nvSpPr>
        <p:spPr>
          <a:xfrm>
            <a:off x="2071800" y="500040"/>
            <a:ext cx="650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3200"/>
            </a:b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ZAKOPANE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143080" y="1811160"/>
            <a:ext cx="5357880" cy="318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71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57240" y="82080"/>
            <a:ext cx="347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sochackia\Moje dokumenty\Prezentacje opracowania\ICCLIMS ZAKOPANE 2010\zakopane galeria\0.bmp"/>
          <p:cNvPicPr/>
          <p:nvPr/>
        </p:nvPicPr>
        <p:blipFill>
          <a:blip r:embed="rId2"/>
          <a:stretch/>
        </p:blipFill>
        <p:spPr>
          <a:xfrm>
            <a:off x="3643200" y="2400480"/>
            <a:ext cx="5257800" cy="2957400"/>
          </a:xfrm>
          <a:prstGeom prst="rect">
            <a:avLst/>
          </a:prstGeom>
          <a:ln w="0">
            <a:noFill/>
          </a:ln>
        </p:spPr>
      </p:pic>
      <p:sp>
        <p:nvSpPr>
          <p:cNvPr id="170" name="pole tekstowe 4"/>
          <p:cNvSpPr/>
          <p:nvPr/>
        </p:nvSpPr>
        <p:spPr>
          <a:xfrm>
            <a:off x="-1500120" y="1558800"/>
            <a:ext cx="94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Place of ICC 2010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l-PL" sz="3600" spc="-1" strike="noStrike" u="sng">
                <a:solidFill>
                  <a:srgbClr val="ffffff"/>
                </a:solidFill>
                <a:uFillTx/>
                <a:latin typeface="Times New Roman"/>
              </a:rPr>
              <a:t>Zakopane-POLAN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rostokąt 6"/>
          <p:cNvSpPr/>
          <p:nvPr/>
        </p:nvSpPr>
        <p:spPr>
          <a:xfrm>
            <a:off x="142920" y="2205000"/>
            <a:ext cx="32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Zakopane – the city in Tatra Mountains in southern Poland situated more then 800 m  above see level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rostokąt 7"/>
          <p:cNvSpPr/>
          <p:nvPr/>
        </p:nvSpPr>
        <p:spPr>
          <a:xfrm>
            <a:off x="4000680" y="54291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One of the most important touristic and sport centres in our countr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Grupa 13"/>
          <p:cNvGrpSpPr/>
          <p:nvPr/>
        </p:nvGrpSpPr>
        <p:grpSpPr>
          <a:xfrm>
            <a:off x="971640" y="4076640"/>
            <a:ext cx="2388960" cy="2781360"/>
            <a:chOff x="971640" y="4076640"/>
            <a:chExt cx="2388960" cy="2781360"/>
          </a:xfrm>
        </p:grpSpPr>
        <p:pic>
          <p:nvPicPr>
            <p:cNvPr id="174" name="Picture 5" descr="C:\Documents and Settings\sochackia\Moje dokumenty\Różne\Mapa.jpg"/>
            <p:cNvPicPr/>
            <p:nvPr/>
          </p:nvPicPr>
          <p:blipFill>
            <a:blip r:embed="rId3"/>
            <a:stretch/>
          </p:blipFill>
          <p:spPr>
            <a:xfrm>
              <a:off x="971640" y="4076640"/>
              <a:ext cx="2388960" cy="27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Schemat blokowy: łącznik 12"/>
            <p:cNvSpPr/>
            <p:nvPr/>
          </p:nvSpPr>
          <p:spPr>
            <a:xfrm>
              <a:off x="2214720" y="6365880"/>
              <a:ext cx="117360" cy="125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cxnSp>
        <p:nvCxnSpPr>
          <p:cNvPr id="176" name="Łącznik prosty ze strzałką 11"/>
          <p:cNvCxnSpPr/>
          <p:nvPr/>
        </p:nvCxnSpPr>
        <p:spPr>
          <a:xfrm flipV="1">
            <a:off x="1116000" y="6467040"/>
            <a:ext cx="100080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Documents and Settings\sochackia\Moje dokumenty\Prezentacje opracowania\ICCLIMS ZAKOPANE 2010\zakopane galeria\Obraz2.jpg"/>
          <p:cNvPicPr/>
          <p:nvPr/>
        </p:nvPicPr>
        <p:blipFill>
          <a:blip r:embed="rId2"/>
          <a:stretch/>
        </p:blipFill>
        <p:spPr>
          <a:xfrm>
            <a:off x="390600" y="1357200"/>
            <a:ext cx="8467560" cy="1857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Documents and Settings\sochackia\Moje dokumenty\Prezentacje opracowania\ICCLIMS ZAKOPANE 2010\zakopane galeria\Bez tytułu2.bmp"/>
          <p:cNvPicPr/>
          <p:nvPr/>
        </p:nvPicPr>
        <p:blipFill>
          <a:blip r:embed="rId3"/>
          <a:stretch/>
        </p:blipFill>
        <p:spPr>
          <a:xfrm>
            <a:off x="42876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4286160" y="4361040"/>
            <a:ext cx="478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kopane</a:t>
            </a:r>
            <a:r>
              <a:rPr b="0" lang="pl-P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is situ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a large valley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atra Mountai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4786200" y="3940560"/>
            <a:ext cx="3714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own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of Zakopane  is the cent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lish Highlanders’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It is al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lly known as "the winter capital of Poland"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2" descr="C:\Documents and Settings\sochackia\Moje dokumenty\Prezentacje opracowania\ICCLIMS ZAKOPANE 2010\zakopane galeria\14.bmp"/>
          <p:cNvPicPr/>
          <p:nvPr/>
        </p:nvPicPr>
        <p:blipFill>
          <a:blip r:embed="rId2"/>
          <a:stretch/>
        </p:blipFill>
        <p:spPr>
          <a:xfrm>
            <a:off x="5000760" y="107172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sochackia\Moje dokumenty\Prezentacje opracowania\ICCLIMS ZAKOPANE 2010\zakopane galeria\7.bmp"/>
          <p:cNvPicPr/>
          <p:nvPr/>
        </p:nvPicPr>
        <p:blipFill>
          <a:blip r:embed="rId3"/>
          <a:stretch/>
        </p:blipFill>
        <p:spPr>
          <a:xfrm>
            <a:off x="642960" y="3857760"/>
            <a:ext cx="3786120" cy="2724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F:\7479-02.jpeg"/>
          <p:cNvPicPr/>
          <p:nvPr/>
        </p:nvPicPr>
        <p:blipFill>
          <a:blip r:embed="rId4"/>
          <a:stretch/>
        </p:blipFill>
        <p:spPr>
          <a:xfrm>
            <a:off x="2071800" y="1571760"/>
            <a:ext cx="3028680" cy="2143080"/>
          </a:xfrm>
          <a:prstGeom prst="rect">
            <a:avLst/>
          </a:prstGeom>
          <a:ln w="0">
            <a:noFill/>
          </a:ln>
        </p:spPr>
      </p:pic>
      <p:sp>
        <p:nvSpPr>
          <p:cNvPr id="187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5" descr="wzwbudynek"/>
          <p:cNvPicPr/>
          <p:nvPr/>
        </p:nvPicPr>
        <p:blipFill>
          <a:blip r:embed="rId1"/>
          <a:stretch/>
        </p:blipFill>
        <p:spPr>
          <a:xfrm>
            <a:off x="530280" y="3763800"/>
            <a:ext cx="4255920" cy="2837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7"/>
          <p:cNvSpPr/>
          <p:nvPr/>
        </p:nvSpPr>
        <p:spPr>
          <a:xfrm>
            <a:off x="250920" y="1413000"/>
            <a:ext cx="849780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00"/>
                </a:solidFill>
                <a:latin typeface="Times New Roman"/>
              </a:rPr>
              <a:t>Camp ba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ITARY RECREATION CENTE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WD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Kościelisko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”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cated 4 km away from the center of Zakopa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9" descr="logoWZW"/>
          <p:cNvPicPr/>
          <p:nvPr/>
        </p:nvPicPr>
        <p:blipFill>
          <a:blip r:embed="rId3"/>
          <a:stretch/>
        </p:blipFill>
        <p:spPr>
          <a:xfrm>
            <a:off x="6775560" y="357120"/>
            <a:ext cx="2011320" cy="1922400"/>
          </a:xfrm>
          <a:prstGeom prst="rect">
            <a:avLst/>
          </a:prstGeom>
          <a:ln w="0">
            <a:noFill/>
          </a:ln>
        </p:spPr>
      </p:pic>
      <p:pic>
        <p:nvPicPr>
          <p:cNvPr id="192" name="Obraz 1" descr="Nowy obraz6.JPG"/>
          <p:cNvPicPr/>
          <p:nvPr/>
        </p:nvPicPr>
        <p:blipFill>
          <a:blip r:embed="rId4"/>
          <a:stretch/>
        </p:blipFill>
        <p:spPr>
          <a:xfrm>
            <a:off x="4929120" y="3357720"/>
            <a:ext cx="3500640" cy="262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176720" y="1201320"/>
            <a:ext cx="4681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W"Kościelisko",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an accommodate as many as 500 guests, is situated in a park with trees typical of Tatra regio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F:\ICCLIMS ZAKOPANE 2010\Zdjęcia\DSCF0151.JPG"/>
          <p:cNvPicPr/>
          <p:nvPr/>
        </p:nvPicPr>
        <p:blipFill>
          <a:blip r:embed="rId2"/>
          <a:stretch/>
        </p:blipFill>
        <p:spPr>
          <a:xfrm>
            <a:off x="500040" y="135720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F:\ICCLIMS ZAKOPANE 2010\Zdjęcia\DSCF0166.JPG"/>
          <p:cNvPicPr/>
          <p:nvPr/>
        </p:nvPicPr>
        <p:blipFill>
          <a:blip r:embed="rId3"/>
          <a:stretch/>
        </p:blipFill>
        <p:spPr>
          <a:xfrm>
            <a:off x="4643280" y="357192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koscielisko1"/>
          <p:cNvPicPr/>
          <p:nvPr/>
        </p:nvPicPr>
        <p:blipFill>
          <a:blip r:embed="rId4"/>
          <a:stretch/>
        </p:blipFill>
        <p:spPr>
          <a:xfrm>
            <a:off x="793800" y="4143240"/>
            <a:ext cx="3635280" cy="2422800"/>
          </a:xfrm>
          <a:prstGeom prst="rect">
            <a:avLst/>
          </a:prstGeom>
          <a:ln w="0">
            <a:noFill/>
          </a:ln>
        </p:spPr>
      </p:pic>
      <p:sp>
        <p:nvSpPr>
          <p:cNvPr id="199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Obraz 333"/>
          <p:cNvPicPr/>
          <p:nvPr/>
        </p:nvPicPr>
        <p:blipFill>
          <a:blip r:embed="rId2"/>
          <a:stretch/>
        </p:blipFill>
        <p:spPr>
          <a:xfrm>
            <a:off x="146160" y="1285920"/>
            <a:ext cx="3997080" cy="2166840"/>
          </a:xfrm>
          <a:prstGeom prst="rect">
            <a:avLst/>
          </a:prstGeom>
          <a:ln w="0">
            <a:noFill/>
          </a:ln>
        </p:spPr>
      </p:pic>
      <p:pic>
        <p:nvPicPr>
          <p:cNvPr id="202" name="Obraz 1" descr="Nowy obraz5.JPG"/>
          <p:cNvPicPr/>
          <p:nvPr/>
        </p:nvPicPr>
        <p:blipFill>
          <a:blip r:embed="rId3"/>
          <a:stretch/>
        </p:blipFill>
        <p:spPr>
          <a:xfrm>
            <a:off x="5286240" y="3857760"/>
            <a:ext cx="3667320" cy="274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3" name="Rectangle 5"/>
          <p:cNvSpPr/>
          <p:nvPr/>
        </p:nvSpPr>
        <p:spPr>
          <a:xfrm>
            <a:off x="4429080" y="1143000"/>
            <a:ext cx="47149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astronomic ba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nning room – 300 pla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fé bar with disco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6" descr="C:\Documents and Settings\sochackia\Moje dokumenty\Prezentacje opracowania\ICCLIMS ZAKOPANE 2010\zakopane galeria\Obraz11.jpg"/>
          <p:cNvPicPr/>
          <p:nvPr/>
        </p:nvPicPr>
        <p:blipFill>
          <a:blip r:embed="rId4"/>
          <a:stretch/>
        </p:blipFill>
        <p:spPr>
          <a:xfrm>
            <a:off x="2500200" y="3000240"/>
            <a:ext cx="3065400" cy="2300400"/>
          </a:xfrm>
          <a:prstGeom prst="rect">
            <a:avLst/>
          </a:prstGeom>
          <a:ln w="0">
            <a:noFill/>
          </a:ln>
        </p:spPr>
      </p:pic>
      <p:sp>
        <p:nvSpPr>
          <p:cNvPr id="205" name="Prostokąt 9"/>
          <p:cNvSpPr/>
          <p:nvPr/>
        </p:nvSpPr>
        <p:spPr>
          <a:xfrm>
            <a:off x="142920" y="3857760"/>
            <a:ext cx="2428920" cy="27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creation</a:t>
            </a:r>
            <a:r>
              <a:rPr b="0" lang="pl-PL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ase 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rt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nis cou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ic h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table 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__MG_9797"/>
          <p:cNvPicPr/>
          <p:nvPr/>
        </p:nvPicPr>
        <p:blipFill>
          <a:blip r:embed="rId2"/>
          <a:stretch/>
        </p:blipFill>
        <p:spPr>
          <a:xfrm>
            <a:off x="6377040" y="1571760"/>
            <a:ext cx="2619360" cy="392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g__MG_9706"/>
          <p:cNvPicPr/>
          <p:nvPr/>
        </p:nvPicPr>
        <p:blipFill>
          <a:blip r:embed="rId3"/>
          <a:stretch/>
        </p:blipFill>
        <p:spPr>
          <a:xfrm>
            <a:off x="214200" y="414324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C:\Documents and Settings\Arek\Pulpit\Gronik_24.jpg"/>
          <p:cNvPicPr/>
          <p:nvPr/>
        </p:nvPicPr>
        <p:blipFill>
          <a:blip r:embed="rId4"/>
          <a:stretch/>
        </p:blipFill>
        <p:spPr>
          <a:xfrm>
            <a:off x="3429000" y="4143240"/>
            <a:ext cx="3762360" cy="2475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250920" y="1341360"/>
            <a:ext cx="5959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ility of taking adventage of sport facilities in Air Force Training Centre (nearby Zakopa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g_basen"/>
          <p:cNvPicPr/>
          <p:nvPr/>
        </p:nvPicPr>
        <p:blipFill>
          <a:blip r:embed="rId2"/>
          <a:stretch/>
        </p:blipFill>
        <p:spPr>
          <a:xfrm>
            <a:off x="4754520" y="4925880"/>
            <a:ext cx="4103640" cy="180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g_sala"/>
          <p:cNvPicPr/>
          <p:nvPr/>
        </p:nvPicPr>
        <p:blipFill>
          <a:blip r:embed="rId3"/>
          <a:stretch/>
        </p:blipFill>
        <p:spPr>
          <a:xfrm>
            <a:off x="88920" y="4071960"/>
            <a:ext cx="5367240" cy="265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g__MG_9723"/>
          <p:cNvPicPr/>
          <p:nvPr/>
        </p:nvPicPr>
        <p:blipFill>
          <a:blip r:embed="rId4"/>
          <a:stretch/>
        </p:blipFill>
        <p:spPr>
          <a:xfrm>
            <a:off x="5749920" y="1628640"/>
            <a:ext cx="3108240" cy="2071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4"/>
          <p:cNvSpPr/>
          <p:nvPr/>
        </p:nvSpPr>
        <p:spPr>
          <a:xfrm>
            <a:off x="250920" y="1341360"/>
            <a:ext cx="5959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ility of taking adventage of sport facilities in Air Force Training Centre (nearby Zakopa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8:19:53Z</dcterms:created>
  <dc:creator>ppp</dc:creator>
  <dc:description/>
  <dc:language>en-US</dc:language>
  <cp:lastModifiedBy>WolfgangSchuessler</cp:lastModifiedBy>
  <dcterms:modified xsi:type="dcterms:W3CDTF">2010-02-05T09:41:21Z</dcterms:modified>
  <cp:revision>197</cp:revision>
  <dc:subject/>
  <dc:title>Slajd 1</dc:title>
</cp:coreProperties>
</file>