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5236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DBE-5AD8-4BEF-B7BB-8263B47FF99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795F-C33B-42FF-952D-2DFCB0253D0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t’s also available to organize trekking through tourist trails in the mountains, coach exursions to Cracow or to breath taking salt mine in  Wieliczk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t is possible to have  raft trip by Dunajec River (what You can see on the picture) an d of course to visit Zakopa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8BD-77B9-4507-AF17-361D3FABD1A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10D-2289-4BAC-91D9-DA328755356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B4A-3EE7-4A22-8F0D-5E79B01C20C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E88-8C73-4D1D-A0D7-0BBAEACD214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A91-6EC5-4B3B-82F0-A4BFF44A503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377-FFF0-4908-B525-756DBB2CFBD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B11-8094-49E8-862A-800A8400684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A9A9-AE88-4C89-B9CD-9F3E817235C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1C9C-424A-44A1-B87B-1A543073C30E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8791-DC8C-4A19-A275-E3BD9072A0DD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744F-E11E-48A9-95D1-F1FD2D8EC487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D246-B720-47BE-913A-730C86DC5A9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4CA-4FAE-4876-8EE4-5FED596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C4A-B46F-4FA0-BD03-021EB2F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330-3226-42B4-8958-35981217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5EC-412B-43A8-81DC-C60A631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662-521B-4141-AD5C-C4DB4474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FE2A-D635-4B28-A9C8-6E3CF91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0846-7C18-4F62-BAB0-BA2D2517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3CF8-1EAB-4E2D-8052-1CFF82DF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0D2-815C-47D5-A58E-0A852F8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BBC1-D7F2-4A50-BEDF-5E4329B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68EC-7CBE-4D46-9102-DB870219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6BF-F182-46C7-B718-1CCD204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7989-5FAD-4981-AB72-A9E7B6AF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11A-C0D9-4CFE-A3D0-EB5F68F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5C53-CF5C-4347-A718-992AFE85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50FF-C123-4492-BF16-01AA17A1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9A1-DCA4-40B0-8B5A-4B4712EE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2BB-B997-46BB-92BB-82CBD2F5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4F2-8C60-4C5C-9F5E-E87DBEB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F29-FDC5-4622-AA54-DBA8608B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6F0-6457-4A5E-BA3A-C16A0879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17A-C4E6-4B04-83A0-82874D1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C88-582B-485E-B2A5-73FCC67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33B-45F7-4429-BB8B-CB8601C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D917-89D4-41C3-8E95-1C8851FE2233}" type="slidenum">
              <a:rPr b="0" lang="pl-P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F25-261E-4A2E-9FAA-8AAF33E6D535}" type="slidenum">
              <a:rPr b="0" lang="pl-P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wmf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400480" y="428760"/>
            <a:ext cx="4343400" cy="2584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2200" y="3833280"/>
            <a:ext cx="8501040" cy="16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ATIONAL CLIMS CAMP</a:t>
            </a:r>
            <a:br>
              <a:rPr sz="4400"/>
            </a:br>
            <a:r>
              <a:rPr b="1" i="1" lang="pl-PL" sz="4400" spc="-1" strike="noStrike">
                <a:solidFill>
                  <a:srgbClr val="ffff00"/>
                </a:solidFill>
                <a:latin typeface="Times New Roman"/>
              </a:rPr>
              <a:t>ZAKOPANE-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LAND 2010</a:t>
            </a:r>
            <a:br>
              <a:rPr sz="4400"/>
            </a:b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ole tekstowe 5"/>
          <p:cNvSpPr/>
          <p:nvPr/>
        </p:nvSpPr>
        <p:spPr>
          <a:xfrm>
            <a:off x="5786280" y="63453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ungary,  October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6560" y="5589720"/>
            <a:ext cx="4465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Lt. Col. Arkadiusz SOCHAC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INISTRY OF NATIONAL DEF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REPUBLIC OF POL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spływ dynajcem"/>
          <p:cNvPicPr/>
          <p:nvPr/>
        </p:nvPicPr>
        <p:blipFill>
          <a:blip r:embed="rId1"/>
          <a:stretch/>
        </p:blipFill>
        <p:spPr>
          <a:xfrm>
            <a:off x="6000840" y="4714920"/>
            <a:ext cx="2846160" cy="191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wieliczka kopalnia"/>
          <p:cNvPicPr/>
          <p:nvPr/>
        </p:nvPicPr>
        <p:blipFill>
          <a:blip r:embed="rId2"/>
          <a:stretch/>
        </p:blipFill>
        <p:spPr>
          <a:xfrm>
            <a:off x="357120" y="4714920"/>
            <a:ext cx="289584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6360" y="754200"/>
            <a:ext cx="727236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ist highligh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cursions on foot and by coach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Tatra Mountains  -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trekking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the city of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akopa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ooden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raf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ips by Dunajec Ri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Royal City Cracow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ESCO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lnSpc>
                <a:spcPct val="14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ting Salt Mine Wieliczka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ESCO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11" descr="C:\Documents and Settings\sochackia\Moje dokumenty\Prezentacje opracowania\ICCLIMS ZAKOPANE 2010\zakopane galeria\15.bmp"/>
          <p:cNvPicPr/>
          <p:nvPr/>
        </p:nvPicPr>
        <p:blipFill>
          <a:blip r:embed="rId3"/>
          <a:stretch/>
        </p:blipFill>
        <p:spPr>
          <a:xfrm>
            <a:off x="3143160" y="471492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Documents and Settings\sochackia\Moje dokumenty\Prezentacje opracowania\ICCLIMS ZAKOPANE 2010\zakopane galeria\17.bmp"/>
          <p:cNvPicPr/>
          <p:nvPr/>
        </p:nvPicPr>
        <p:blipFill>
          <a:blip r:embed="rId4"/>
          <a:stretch/>
        </p:blipFill>
        <p:spPr>
          <a:xfrm>
            <a:off x="6072120" y="785880"/>
            <a:ext cx="2681280" cy="3571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5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225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Trollandia"/>
          <p:cNvPicPr/>
          <p:nvPr/>
        </p:nvPicPr>
        <p:blipFill>
          <a:blip r:embed="rId1"/>
          <a:stretch/>
        </p:blipFill>
        <p:spPr>
          <a:xfrm>
            <a:off x="6072120" y="642960"/>
            <a:ext cx="2384640" cy="1785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285840" y="1428840"/>
            <a:ext cx="4572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reation and spo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le pa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bing w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ycle excur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F:\ICCLIMS ZAKOPANE 2010\Zdjęcia\g__MG_9828.JPG"/>
          <p:cNvPicPr/>
          <p:nvPr/>
        </p:nvPicPr>
        <p:blipFill>
          <a:blip r:embed="rId3"/>
          <a:stretch/>
        </p:blipFill>
        <p:spPr>
          <a:xfrm>
            <a:off x="4191120" y="2427120"/>
            <a:ext cx="3000240" cy="1859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F:\ICCLIMS ZAKOPANE 2010\Zdjęcia\P1010502.JPG"/>
          <p:cNvPicPr/>
          <p:nvPr/>
        </p:nvPicPr>
        <p:blipFill>
          <a:blip r:embed="rId4"/>
          <a:stretch/>
        </p:blipFill>
        <p:spPr>
          <a:xfrm>
            <a:off x="5477040" y="428616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wspinaczkowa"/>
          <p:cNvPicPr/>
          <p:nvPr/>
        </p:nvPicPr>
        <p:blipFill>
          <a:blip r:embed="rId5"/>
          <a:stretch/>
        </p:blipFill>
        <p:spPr>
          <a:xfrm>
            <a:off x="976320" y="3929040"/>
            <a:ext cx="3782880" cy="2668680"/>
          </a:xfrm>
          <a:prstGeom prst="rect">
            <a:avLst/>
          </a:prstGeom>
          <a:ln w="0">
            <a:noFill/>
          </a:ln>
        </p:spPr>
      </p:pic>
      <p:sp>
        <p:nvSpPr>
          <p:cNvPr id="232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36680" y="1203120"/>
            <a:ext cx="8064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tertainment (recreation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amp f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highlander b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ase of bad weather - projection of mov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2" descr="C:\Documents and Settings\sochackia\Moje dokumenty\Prezentacje opracowania\ICCLIMS ZAKOPANE 2010\zakopane galeria\6.bmp"/>
          <p:cNvPicPr/>
          <p:nvPr/>
        </p:nvPicPr>
        <p:blipFill>
          <a:blip r:embed="rId1"/>
          <a:stretch/>
        </p:blipFill>
        <p:spPr>
          <a:xfrm>
            <a:off x="4071960" y="37148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36" name="Obraz 1" descr="OGNISKO.TIF"/>
          <p:cNvPicPr/>
          <p:nvPr/>
        </p:nvPicPr>
        <p:blipFill>
          <a:blip r:embed="rId3"/>
          <a:stretch/>
        </p:blipFill>
        <p:spPr>
          <a:xfrm>
            <a:off x="857160" y="3214800"/>
            <a:ext cx="2857680" cy="19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7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785880" y="6177960"/>
            <a:ext cx="734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www.wzw.zakopane.p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rostokąt 2"/>
          <p:cNvSpPr/>
          <p:nvPr/>
        </p:nvSpPr>
        <p:spPr>
          <a:xfrm>
            <a:off x="539640" y="5130720"/>
            <a:ext cx="81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00"/>
                </a:solidFill>
                <a:latin typeface="Bernard MT Condensed"/>
              </a:rPr>
              <a:t>WELCOME TO ZAKOPA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00"/>
                </a:solidFill>
                <a:latin typeface="Bernard MT Condensed"/>
              </a:rPr>
              <a:t>country of nature and beauty!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ytuł 1"/>
          <p:cNvSpPr/>
          <p:nvPr/>
        </p:nvSpPr>
        <p:spPr>
          <a:xfrm>
            <a:off x="2071800" y="500040"/>
            <a:ext cx="65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ZAKOPANE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143080" y="1811160"/>
            <a:ext cx="5357880" cy="318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71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57240" y="8208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sochackia\Moje dokumenty\Prezentacje opracowania\ICCLIMS ZAKOPANE 2010\zakopane galeria\0.bmp"/>
          <p:cNvPicPr/>
          <p:nvPr/>
        </p:nvPicPr>
        <p:blipFill>
          <a:blip r:embed="rId2"/>
          <a:stretch/>
        </p:blipFill>
        <p:spPr>
          <a:xfrm>
            <a:off x="3643200" y="240048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4"/>
          <p:cNvSpPr/>
          <p:nvPr/>
        </p:nvSpPr>
        <p:spPr>
          <a:xfrm>
            <a:off x="-1500120" y="1558800"/>
            <a:ext cx="94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Place of ICC 2010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3600" spc="-1" strike="noStrike" u="sng">
                <a:solidFill>
                  <a:srgbClr val="ffffff"/>
                </a:solidFill>
                <a:uFillTx/>
                <a:latin typeface="Times New Roman"/>
              </a:rPr>
              <a:t>Zakopane-POLA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142920" y="220500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Zakopane – the city in Tatra Mountains in southern Poland situated more then 800 m  above see level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rostokąt 7"/>
          <p:cNvSpPr/>
          <p:nvPr/>
        </p:nvSpPr>
        <p:spPr>
          <a:xfrm>
            <a:off x="4000680" y="54291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ne of the most important touristic and sport centres in our countr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971640" y="4076640"/>
            <a:ext cx="2388960" cy="2781360"/>
            <a:chOff x="971640" y="4076640"/>
            <a:chExt cx="2388960" cy="2781360"/>
          </a:xfrm>
        </p:grpSpPr>
        <p:pic>
          <p:nvPicPr>
            <p:cNvPr id="174" name="Picture 5" descr="C:\Documents and Settings\sochackia\Moje dokumenty\Różne\Mapa.jpg"/>
            <p:cNvPicPr/>
            <p:nvPr/>
          </p:nvPicPr>
          <p:blipFill>
            <a:blip r:embed="rId3"/>
            <a:stretch/>
          </p:blipFill>
          <p:spPr>
            <a:xfrm>
              <a:off x="971640" y="4076640"/>
              <a:ext cx="238896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Schemat blokowy: łącznik 12"/>
            <p:cNvSpPr/>
            <p:nvPr/>
          </p:nvSpPr>
          <p:spPr>
            <a:xfrm>
              <a:off x="2214720" y="6365880"/>
              <a:ext cx="117360" cy="125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cxnSp>
        <p:nvCxnSpPr>
          <p:cNvPr id="176" name="Łącznik prosty ze strzałką 11"/>
          <p:cNvCxnSpPr/>
          <p:nvPr/>
        </p:nvCxnSpPr>
        <p:spPr>
          <a:xfrm flipV="1">
            <a:off x="1116000" y="6467040"/>
            <a:ext cx="100080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sochackia\Moje dokumenty\Prezentacje opracowania\ICCLIMS ZAKOPANE 2010\zakopane galeria\Obraz2.jpg"/>
          <p:cNvPicPr/>
          <p:nvPr/>
        </p:nvPicPr>
        <p:blipFill>
          <a:blip r:embed="rId2"/>
          <a:stretch/>
        </p:blipFill>
        <p:spPr>
          <a:xfrm>
            <a:off x="390600" y="1357200"/>
            <a:ext cx="8467560" cy="18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Documents and Settings\sochackia\Moje dokumenty\Prezentacje opracowania\ICCLIMS ZAKOPANE 2010\zakopane galeria\Bez tytułu2.bmp"/>
          <p:cNvPicPr/>
          <p:nvPr/>
        </p:nvPicPr>
        <p:blipFill>
          <a:blip r:embed="rId3"/>
          <a:stretch/>
        </p:blipFill>
        <p:spPr>
          <a:xfrm>
            <a:off x="42876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286160" y="436104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kopane</a:t>
            </a:r>
            <a:r>
              <a:rPr b="0" lang="pl-P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s situ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large valley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atra Mountai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4786200" y="3940560"/>
            <a:ext cx="371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wn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of Zakopane  is the cent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lish Highlanders’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t is al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ly known as "the winter capital of Poland"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2" descr="C:\Documents and Settings\sochackia\Moje dokumenty\Prezentacje opracowania\ICCLIMS ZAKOPANE 2010\zakopane galeria\14.bmp"/>
          <p:cNvPicPr/>
          <p:nvPr/>
        </p:nvPicPr>
        <p:blipFill>
          <a:blip r:embed="rId2"/>
          <a:stretch/>
        </p:blipFill>
        <p:spPr>
          <a:xfrm>
            <a:off x="5000760" y="10717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chackia\Moje dokumenty\Prezentacje opracowania\ICCLIMS ZAKOPANE 2010\zakopane galeria\7.bmp"/>
          <p:cNvPicPr/>
          <p:nvPr/>
        </p:nvPicPr>
        <p:blipFill>
          <a:blip r:embed="rId3"/>
          <a:stretch/>
        </p:blipFill>
        <p:spPr>
          <a:xfrm>
            <a:off x="642960" y="3857760"/>
            <a:ext cx="3786120" cy="2724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F:\7479-02.jpeg"/>
          <p:cNvPicPr/>
          <p:nvPr/>
        </p:nvPicPr>
        <p:blipFill>
          <a:blip r:embed="rId4"/>
          <a:stretch/>
        </p:blipFill>
        <p:spPr>
          <a:xfrm>
            <a:off x="2071800" y="1571760"/>
            <a:ext cx="3028680" cy="2143080"/>
          </a:xfrm>
          <a:prstGeom prst="rect">
            <a:avLst/>
          </a:prstGeom>
          <a:ln w="0">
            <a:noFill/>
          </a:ln>
        </p:spPr>
      </p:pic>
      <p:sp>
        <p:nvSpPr>
          <p:cNvPr id="187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5" descr="wzwbudynek"/>
          <p:cNvPicPr/>
          <p:nvPr/>
        </p:nvPicPr>
        <p:blipFill>
          <a:blip r:embed="rId1"/>
          <a:stretch/>
        </p:blipFill>
        <p:spPr>
          <a:xfrm>
            <a:off x="530280" y="3763800"/>
            <a:ext cx="4255920" cy="2837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250920" y="1413000"/>
            <a:ext cx="849780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Camp ba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ITARY RECREATION CENT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WD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Kościelisk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”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cated 4 km away from the center of Zakopa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logoWZW"/>
          <p:cNvPicPr/>
          <p:nvPr/>
        </p:nvPicPr>
        <p:blipFill>
          <a:blip r:embed="rId3"/>
          <a:stretch/>
        </p:blipFill>
        <p:spPr>
          <a:xfrm>
            <a:off x="6775560" y="357120"/>
            <a:ext cx="201132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1" descr="Nowy obraz6.JPG"/>
          <p:cNvPicPr/>
          <p:nvPr/>
        </p:nvPicPr>
        <p:blipFill>
          <a:blip r:embed="rId4"/>
          <a:stretch/>
        </p:blipFill>
        <p:spPr>
          <a:xfrm>
            <a:off x="4929120" y="3357720"/>
            <a:ext cx="3500640" cy="262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176720" y="120132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W"Kościelisko",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an accommodate as many as 500 guests, is situated in a park with trees typical of Tatra reg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:\ICCLIMS ZAKOPANE 2010\Zdjęcia\DSCF0151.JPG"/>
          <p:cNvPicPr/>
          <p:nvPr/>
        </p:nvPicPr>
        <p:blipFill>
          <a:blip r:embed="rId2"/>
          <a:stretch/>
        </p:blipFill>
        <p:spPr>
          <a:xfrm>
            <a:off x="500040" y="135720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F:\ICCLIMS ZAKOPANE 2010\Zdjęcia\DSCF0166.JPG"/>
          <p:cNvPicPr/>
          <p:nvPr/>
        </p:nvPicPr>
        <p:blipFill>
          <a:blip r:embed="rId3"/>
          <a:stretch/>
        </p:blipFill>
        <p:spPr>
          <a:xfrm>
            <a:off x="4643280" y="35719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koscielisko1"/>
          <p:cNvPicPr/>
          <p:nvPr/>
        </p:nvPicPr>
        <p:blipFill>
          <a:blip r:embed="rId4"/>
          <a:stretch/>
        </p:blipFill>
        <p:spPr>
          <a:xfrm>
            <a:off x="793800" y="4143240"/>
            <a:ext cx="3635280" cy="2422800"/>
          </a:xfrm>
          <a:prstGeom prst="rect">
            <a:avLst/>
          </a:prstGeom>
          <a:ln w="0">
            <a:noFill/>
          </a:ln>
        </p:spPr>
      </p:pic>
      <p:sp>
        <p:nvSpPr>
          <p:cNvPr id="199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Obraz 333"/>
          <p:cNvPicPr/>
          <p:nvPr/>
        </p:nvPicPr>
        <p:blipFill>
          <a:blip r:embed="rId2"/>
          <a:stretch/>
        </p:blipFill>
        <p:spPr>
          <a:xfrm>
            <a:off x="146160" y="1285920"/>
            <a:ext cx="3997080" cy="2166840"/>
          </a:xfrm>
          <a:prstGeom prst="rect">
            <a:avLst/>
          </a:prstGeom>
          <a:ln w="0">
            <a:noFill/>
          </a:ln>
        </p:spPr>
      </p:pic>
      <p:pic>
        <p:nvPicPr>
          <p:cNvPr id="202" name="Obraz 1" descr="Nowy obraz5.JPG"/>
          <p:cNvPicPr/>
          <p:nvPr/>
        </p:nvPicPr>
        <p:blipFill>
          <a:blip r:embed="rId3"/>
          <a:stretch/>
        </p:blipFill>
        <p:spPr>
          <a:xfrm>
            <a:off x="5286240" y="3857760"/>
            <a:ext cx="3667320" cy="274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3" name="Rectangle 5"/>
          <p:cNvSpPr/>
          <p:nvPr/>
        </p:nvSpPr>
        <p:spPr>
          <a:xfrm>
            <a:off x="4429080" y="1143000"/>
            <a:ext cx="4714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astronomic ba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ning room – 300 pla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é bar with disco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6" descr="C:\Documents and Settings\sochackia\Moje dokumenty\Prezentacje opracowania\ICCLIMS ZAKOPANE 2010\zakopane galeria\Obraz11.jpg"/>
          <p:cNvPicPr/>
          <p:nvPr/>
        </p:nvPicPr>
        <p:blipFill>
          <a:blip r:embed="rId4"/>
          <a:stretch/>
        </p:blipFill>
        <p:spPr>
          <a:xfrm>
            <a:off x="2500200" y="3000240"/>
            <a:ext cx="3065400" cy="2300400"/>
          </a:xfrm>
          <a:prstGeom prst="rect">
            <a:avLst/>
          </a:prstGeom>
          <a:ln w="0">
            <a:noFill/>
          </a:ln>
        </p:spPr>
      </p:pic>
      <p:sp>
        <p:nvSpPr>
          <p:cNvPr id="205" name="Prostokąt 9"/>
          <p:cNvSpPr/>
          <p:nvPr/>
        </p:nvSpPr>
        <p:spPr>
          <a:xfrm>
            <a:off x="142920" y="3857760"/>
            <a:ext cx="242892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creation</a:t>
            </a:r>
            <a:r>
              <a:rPr b="0" lang="pl-P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se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rt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is cou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ic h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table 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__MG_9797"/>
          <p:cNvPicPr/>
          <p:nvPr/>
        </p:nvPicPr>
        <p:blipFill>
          <a:blip r:embed="rId2"/>
          <a:stretch/>
        </p:blipFill>
        <p:spPr>
          <a:xfrm>
            <a:off x="6377040" y="1571760"/>
            <a:ext cx="2619360" cy="392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g__MG_9706"/>
          <p:cNvPicPr/>
          <p:nvPr/>
        </p:nvPicPr>
        <p:blipFill>
          <a:blip r:embed="rId3"/>
          <a:stretch/>
        </p:blipFill>
        <p:spPr>
          <a:xfrm>
            <a:off x="214200" y="41432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C:\Documents and Settings\Arek\Pulpit\Gronik_24.jpg"/>
          <p:cNvPicPr/>
          <p:nvPr/>
        </p:nvPicPr>
        <p:blipFill>
          <a:blip r:embed="rId4"/>
          <a:stretch/>
        </p:blipFill>
        <p:spPr>
          <a:xfrm>
            <a:off x="3429000" y="4143240"/>
            <a:ext cx="3762360" cy="2475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50920" y="1341360"/>
            <a:ext cx="5959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taking adventage of sport facilities in Air Force Training Centre (nearby Zakopa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14200" y="16524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g_basen"/>
          <p:cNvPicPr/>
          <p:nvPr/>
        </p:nvPicPr>
        <p:blipFill>
          <a:blip r:embed="rId2"/>
          <a:stretch/>
        </p:blipFill>
        <p:spPr>
          <a:xfrm>
            <a:off x="4754520" y="4925880"/>
            <a:ext cx="4103640" cy="180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g_sala"/>
          <p:cNvPicPr/>
          <p:nvPr/>
        </p:nvPicPr>
        <p:blipFill>
          <a:blip r:embed="rId3"/>
          <a:stretch/>
        </p:blipFill>
        <p:spPr>
          <a:xfrm>
            <a:off x="88920" y="4071960"/>
            <a:ext cx="5367240" cy="265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g__MG_9723"/>
          <p:cNvPicPr/>
          <p:nvPr/>
        </p:nvPicPr>
        <p:blipFill>
          <a:blip r:embed="rId4"/>
          <a:stretch/>
        </p:blipFill>
        <p:spPr>
          <a:xfrm>
            <a:off x="5749920" y="1628640"/>
            <a:ext cx="3108240" cy="2071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250920" y="1341360"/>
            <a:ext cx="5959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taking adventage of sport facilities in Air Force Training Centre (nearby Zakopa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ytuł 1"/>
          <p:cNvSpPr/>
          <p:nvPr/>
        </p:nvSpPr>
        <p:spPr>
          <a:xfrm>
            <a:off x="1857240" y="824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MS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P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ZAKOPANE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LAND 20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8:19:53Z</dcterms:created>
  <dc:creator>ppp</dc:creator>
  <dc:description/>
  <dc:language>en-US</dc:language>
  <cp:lastModifiedBy>WolfgangSchuessler</cp:lastModifiedBy>
  <dcterms:modified xsi:type="dcterms:W3CDTF">2010-02-05T09:41:21Z</dcterms:modified>
  <cp:revision>197</cp:revision>
  <dc:subject/>
  <dc:title>Slajd 1</dc:title>
</cp:coreProperties>
</file>