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31.jpeg" ContentType="image/jpeg"/>
  <Override PartName="/ppt/media/image25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12.jpeg" ContentType="image/jpeg"/>
  <Override PartName="/ppt/media/image4.jpeg" ContentType="image/jpeg"/>
  <Override PartName="/ppt/media/image8.wmf" ContentType="image/x-wmf"/>
  <Override PartName="/ppt/media/image5.png" ContentType="image/png"/>
  <Override PartName="/ppt/media/image43.jpeg" ContentType="image/jpeg"/>
  <Override PartName="/ppt/media/image9.wmf" ContentType="image/x-wmf"/>
  <Override PartName="/ppt/media/image11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DF3-0AE1-496E-9D8A-09C3C38A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147-4812-4CF0-A310-4B611C4F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BCD-C5C0-49DF-8268-2C603596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83E-17A6-453A-99C1-619B596F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FE2-02A3-4649-B106-B954A1C4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1A2-6166-4909-972A-C329204F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07A-8CF0-496D-9C26-E244C801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863-A104-49A0-9E04-CF73FF77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0EB8-FDAC-417D-8E76-5C1A677E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669-C3FE-4D4E-98F2-64CBD1E3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9BA-BF4A-4C72-A952-E1C6515E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04E-9282-41DA-8824-A3D579F9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3B32-D268-454A-9898-403FFBE34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2362320" y="24382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 C C  -  0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CuadroTexto"/>
          <p:cNvSpPr/>
          <p:nvPr/>
        </p:nvSpPr>
        <p:spPr>
          <a:xfrm>
            <a:off x="2590920" y="4419720"/>
            <a:ext cx="314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Arial"/>
              </a:rPr>
              <a:t>Santo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Arial"/>
              </a:rPr>
              <a:t>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3 Imagen" descr="image6.gif"/>
          <p:cNvPicPr/>
          <p:nvPr/>
        </p:nvPicPr>
        <p:blipFill>
          <a:blip r:embed="rId1"/>
          <a:stretch/>
        </p:blipFill>
        <p:spPr>
          <a:xfrm>
            <a:off x="6227640" y="4581360"/>
            <a:ext cx="2438640" cy="126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05120" y="3352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om 16th to 30th of July, 200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4040" y="552276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5715000"/>
            <a:ext cx="1582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DIAP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203040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160020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 Imagen" descr="_ON_01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324480" y="4495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DDLE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Imagen" descr="_ON_0107.JPG"/>
          <p:cNvPicPr/>
          <p:nvPr/>
        </p:nvPicPr>
        <p:blipFill>
          <a:blip r:embed="rId1"/>
          <a:stretch/>
        </p:blipFill>
        <p:spPr>
          <a:xfrm>
            <a:off x="-181080" y="0"/>
            <a:ext cx="9507600" cy="7029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40560" y="6400800"/>
            <a:ext cx="203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6308640"/>
            <a:ext cx="23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N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443640" y="6093000"/>
            <a:ext cx="25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RST-AID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248520" y="61722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AM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128000" y="5805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 Imagen" descr="_ON_01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30872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6256440"/>
            <a:ext cx="17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D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 Imagen" descr="habitacio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78168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D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49360"/>
            <a:ext cx="9144000" cy="573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ytime Pla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sic (guitar, harmonica, percu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che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encing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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s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o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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nork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ck climb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o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erobic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B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voua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native s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rt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win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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ght Pla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ymkhan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lamenco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rbecu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rror n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urs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cend of River Deva by cano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trip to Comill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cend into the Soplado Cav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sits to the tow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trip to Santillana and Santa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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  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its to Nature Reserve of Cabarc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5373720"/>
            <a:ext cx="144360" cy="21600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227640" y="623736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YC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 Imagen" descr="Mapa España.jpg"/>
          <p:cNvPicPr/>
          <p:nvPr/>
        </p:nvPicPr>
        <p:blipFill>
          <a:blip r:embed="rId1"/>
          <a:stretch/>
        </p:blipFill>
        <p:spPr>
          <a:xfrm>
            <a:off x="533520" y="838080"/>
            <a:ext cx="3124080" cy="21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" name="6 Imagen" descr="costa_oriental.gif"/>
          <p:cNvPicPr/>
          <p:nvPr/>
        </p:nvPicPr>
        <p:blipFill>
          <a:blip r:embed="rId2"/>
          <a:stretch/>
        </p:blipFill>
        <p:spPr>
          <a:xfrm>
            <a:off x="1676520" y="3352680"/>
            <a:ext cx="6172200" cy="32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51" name="8 Grupo"/>
          <p:cNvGrpSpPr/>
          <p:nvPr/>
        </p:nvGrpSpPr>
        <p:grpSpPr>
          <a:xfrm>
            <a:off x="5562720" y="838080"/>
            <a:ext cx="3046320" cy="2171880"/>
            <a:chOff x="5562720" y="838080"/>
            <a:chExt cx="3046320" cy="2171880"/>
          </a:xfrm>
        </p:grpSpPr>
        <p:pic>
          <p:nvPicPr>
            <p:cNvPr id="52" name="5 Imagen" descr="Mapa Cantabria.jpg"/>
            <p:cNvPicPr/>
            <p:nvPr/>
          </p:nvPicPr>
          <p:blipFill>
            <a:blip r:embed="rId3"/>
            <a:stretch/>
          </p:blipFill>
          <p:spPr>
            <a:xfrm>
              <a:off x="5562720" y="850320"/>
              <a:ext cx="2881800" cy="2159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53" name="7 CuadroTexto"/>
            <p:cNvSpPr/>
            <p:nvPr/>
          </p:nvSpPr>
          <p:spPr>
            <a:xfrm>
              <a:off x="7537680" y="83808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alibri"/>
                </a:rPr>
                <a:t>Santoñ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Object 2" descr=""/>
          <p:cNvPicPr/>
          <p:nvPr/>
        </p:nvPicPr>
        <p:blipFill>
          <a:blip r:embed="rId4"/>
          <a:stretch/>
        </p:blipFill>
        <p:spPr>
          <a:xfrm>
            <a:off x="-915840" y="5958000"/>
            <a:ext cx="523800" cy="485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66680" y="228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PAIN                                  ICC 09                              SANTO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4800600"/>
            <a:ext cx="9903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NTOÑ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4191120"/>
            <a:ext cx="15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5880" y="6095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443640" y="6093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NO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84720" y="595008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NO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315200" y="61722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380360" y="5516640"/>
            <a:ext cx="13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ERO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67640" y="63244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486400" y="5950080"/>
            <a:ext cx="24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OCK CLIM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0" y="594360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EK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705720" y="6324480"/>
            <a:ext cx="16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C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24720" y="616572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1680" y="4705200"/>
            <a:ext cx="295200" cy="343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541440" cy="412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71600" y="4572000"/>
            <a:ext cx="556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national Airport of Sondika ( Bilba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national Airport of Barajas ( Madr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35812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5562720"/>
            <a:ext cx="7238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-8 Exit: 182 Santoñ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 Madrid, bus from DIAPER. The 16th of July at 10am from Paseo de Moret, 3 (at Moncloa underground statio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8534160" cy="3446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62520" y="1066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O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503400">
            <a:off x="3886200" y="1447560"/>
            <a:ext cx="304920" cy="15228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588000" y="6165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ATERP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12000" y="6021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440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3881520"/>
            <a:ext cx="9144000" cy="2976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38080" y="3505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URE RESERVE OF CABARC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3276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4876920" cy="2971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940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495680" y="33526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3352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VE OF SOP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227640" y="558972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MP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1640" y="616572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PTAIN FRANCISCO GONZALEZ NUÑ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70" name="3 Imagen" descr="BERRIA-SANTOÑA XX-50X70 SEPIA 1 copia copia.jpg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1906200">
            <a:off x="1167840" y="351756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ACH OF BER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363640" y="1916280"/>
            <a:ext cx="36036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15573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CC-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40360" y="3429000"/>
            <a:ext cx="792000" cy="14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35280" y="3213000"/>
            <a:ext cx="432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Imagen" descr="AEREA SANTOÑA-FOTO FONFRIA Nº1.tif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6659280" y="2421000"/>
            <a:ext cx="1297080" cy="28728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56720" y="2205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CC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63244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OÑA Y MARI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9011600">
            <a:off x="-65880" y="143640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ACH OF BER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80520" y="1981080"/>
            <a:ext cx="2286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80880" y="2057400"/>
            <a:ext cx="130968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Imagen" descr="SANTOÑA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63640" y="26028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19640" y="4365720"/>
            <a:ext cx="100800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7640" y="486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CC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1000">
            <a:off x="3579480" y="1449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ACH OF BER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 Imagen" descr="PATRONATO MILIT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H="1">
            <a:off x="4419360" y="2286000"/>
            <a:ext cx="5331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CC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Imagen" descr="patronat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 Imagen" descr="_ON_01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35640" y="6019920"/>
            <a:ext cx="26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LAY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8:21:41Z</dcterms:created>
  <dc:creator>lmuemed</dc:creator>
  <dc:description/>
  <dc:language>en-US</dc:language>
  <cp:lastModifiedBy>ipelayof</cp:lastModifiedBy>
  <dcterms:modified xsi:type="dcterms:W3CDTF">2009-03-30T07:59:12Z</dcterms:modified>
  <cp:revision>43</cp:revision>
  <dc:subject/>
  <dc:title>Diapositiva 1</dc:title>
</cp:coreProperties>
</file>