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31.jpeg" ContentType="image/jpeg"/>
  <Override PartName="/ppt/media/image25.jpeg" ContentType="image/jpeg"/>
  <Override PartName="/ppt/media/image34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44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45.jpeg" ContentType="image/jpeg"/>
  <Override PartName="/ppt/media/image12.jpeg" ContentType="image/jpeg"/>
  <Override PartName="/ppt/media/image4.jpeg" ContentType="image/jpeg"/>
  <Override PartName="/ppt/media/image8.wmf" ContentType="image/x-wmf"/>
  <Override PartName="/ppt/media/image5.png" ContentType="image/png"/>
  <Override PartName="/ppt/media/image43.jpeg" ContentType="image/jpeg"/>
  <Override PartName="/ppt/media/image9.wmf" ContentType="image/x-wmf"/>
  <Override PartName="/ppt/media/image11.jpeg" ContentType="image/jpeg"/>
  <Override PartName="/ppt/media/image30.jpeg" ContentType="image/jpeg"/>
  <Override PartName="/ppt/media/image7.wmf" ContentType="image/x-wmf"/>
  <Override PartName="/ppt/media/image20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2429-6754-4411-805C-97EA3F97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A54D-3A91-42D6-AEF2-12941DD6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64C0-C62F-4176-B60E-BB06B18A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8713-D4BF-4896-8C87-C5B3D6D3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6D23-B32A-4DE5-B702-F9EBB4A1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3B26-6CA8-4F3A-AA11-8CF607C9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797B-5F33-4221-9544-A937B53E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C81C-C481-47B5-A62F-9930099F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352D-8EDA-4030-B8A6-DA1C95FF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51BF-F772-44C6-B0BA-4805B08C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AC12-27FC-4939-8D41-AAB743E7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9538-B611-4224-9295-B917FB5A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1ED8-F153-4FEE-B6E5-37F0BD19F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CuadroTexto"/>
          <p:cNvSpPr/>
          <p:nvPr/>
        </p:nvSpPr>
        <p:spPr>
          <a:xfrm>
            <a:off x="2362320" y="24382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 C C  -  0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CuadroTexto"/>
          <p:cNvSpPr/>
          <p:nvPr/>
        </p:nvSpPr>
        <p:spPr>
          <a:xfrm>
            <a:off x="2590920" y="4419720"/>
            <a:ext cx="314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Arial"/>
              </a:rPr>
              <a:t>Santoñ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Arial"/>
              </a:rPr>
              <a:t>S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3 Imagen" descr="image6.gif"/>
          <p:cNvPicPr/>
          <p:nvPr/>
        </p:nvPicPr>
        <p:blipFill>
          <a:blip r:embed="rId1"/>
          <a:stretch/>
        </p:blipFill>
        <p:spPr>
          <a:xfrm>
            <a:off x="6227640" y="4581360"/>
            <a:ext cx="2438640" cy="1260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05120" y="33526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rom 16th to 30th of July, 200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4040" y="552276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5715000"/>
            <a:ext cx="1582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DIAP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352680" y="228600"/>
            <a:ext cx="2030400" cy="2057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09480" y="4267080"/>
            <a:ext cx="160020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1 Imagen" descr="_ON_01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324480" y="44956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DDLE COU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1 Imagen" descr="_ON_0107.JPG"/>
          <p:cNvPicPr/>
          <p:nvPr/>
        </p:nvPicPr>
        <p:blipFill>
          <a:blip r:embed="rId1"/>
          <a:stretch/>
        </p:blipFill>
        <p:spPr>
          <a:xfrm>
            <a:off x="-181080" y="0"/>
            <a:ext cx="9507600" cy="7029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640560" y="6400800"/>
            <a:ext cx="203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6308640"/>
            <a:ext cx="23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NING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443640" y="6093000"/>
            <a:ext cx="25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IRST-AID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248520" y="61722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AMING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128000" y="5805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1 Imagen" descr="_ON_01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308720" y="623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6256440"/>
            <a:ext cx="172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D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1 Imagen" descr="habitacion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78168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D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549360"/>
            <a:ext cx="9144000" cy="573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aytime Plan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sic (guitar, harmonica, percus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cher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encing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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s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o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k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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norke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ock climb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no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erobic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B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voua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ternative spor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art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owing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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ight Plan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sc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ymkhan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lamenco 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rbecu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rror nigh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cursion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cend of River Deva by cano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trip to Comill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cend into the Soplado Cav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sits to the tow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trip to Santillana and Santa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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  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its to Nature Reserve of Cabarce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5373720"/>
            <a:ext cx="144360" cy="216000"/>
          </a:xfrm>
          <a:prstGeom prst="beve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227640" y="623736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YC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3 Imagen" descr="Mapa España.jpg"/>
          <p:cNvPicPr/>
          <p:nvPr/>
        </p:nvPicPr>
        <p:blipFill>
          <a:blip r:embed="rId1"/>
          <a:stretch/>
        </p:blipFill>
        <p:spPr>
          <a:xfrm>
            <a:off x="533520" y="838080"/>
            <a:ext cx="3124080" cy="216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0" name="6 Imagen" descr="costa_oriental.gif"/>
          <p:cNvPicPr/>
          <p:nvPr/>
        </p:nvPicPr>
        <p:blipFill>
          <a:blip r:embed="rId2"/>
          <a:stretch/>
        </p:blipFill>
        <p:spPr>
          <a:xfrm>
            <a:off x="1676520" y="3352680"/>
            <a:ext cx="6172200" cy="3276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51" name="8 Grupo"/>
          <p:cNvGrpSpPr/>
          <p:nvPr/>
        </p:nvGrpSpPr>
        <p:grpSpPr>
          <a:xfrm>
            <a:off x="5562720" y="838080"/>
            <a:ext cx="3046320" cy="2171880"/>
            <a:chOff x="5562720" y="838080"/>
            <a:chExt cx="3046320" cy="2171880"/>
          </a:xfrm>
        </p:grpSpPr>
        <p:pic>
          <p:nvPicPr>
            <p:cNvPr id="52" name="5 Imagen" descr="Mapa Cantabria.jpg"/>
            <p:cNvPicPr/>
            <p:nvPr/>
          </p:nvPicPr>
          <p:blipFill>
            <a:blip r:embed="rId3"/>
            <a:stretch/>
          </p:blipFill>
          <p:spPr>
            <a:xfrm>
              <a:off x="5562720" y="850320"/>
              <a:ext cx="2881800" cy="21596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53" name="7 CuadroTexto"/>
            <p:cNvSpPr/>
            <p:nvPr/>
          </p:nvSpPr>
          <p:spPr>
            <a:xfrm>
              <a:off x="7537680" y="838080"/>
              <a:ext cx="107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alibri"/>
                </a:rPr>
                <a:t>Santoñ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Object 2" descr=""/>
          <p:cNvPicPr/>
          <p:nvPr/>
        </p:nvPicPr>
        <p:blipFill>
          <a:blip r:embed="rId4"/>
          <a:stretch/>
        </p:blipFill>
        <p:spPr>
          <a:xfrm>
            <a:off x="-915840" y="5958000"/>
            <a:ext cx="523800" cy="485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66680" y="228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PAIN                                  ICC 09                              SANTO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4800600"/>
            <a:ext cx="99036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NTOÑ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4191120"/>
            <a:ext cx="152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095880" y="60958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443640" y="60930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NOE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84720" y="5950080"/>
            <a:ext cx="22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NOE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315200" y="61722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380360" y="5516640"/>
            <a:ext cx="13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ERO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667640" y="632448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O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486400" y="5950080"/>
            <a:ext cx="24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OCK CLIMB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58000" y="594360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REK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705720" y="6324480"/>
            <a:ext cx="16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RC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524720" y="616572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1680" y="4705200"/>
            <a:ext cx="295200" cy="343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5791320"/>
            <a:ext cx="541440" cy="412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371600" y="4572000"/>
            <a:ext cx="556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rnational Airport of Sondika ( Bilba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rnational Airport of Barajas ( Madri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3581280"/>
            <a:ext cx="441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5562720"/>
            <a:ext cx="7238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-8 Exit: 182 Santoñ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 Madrid, bus from DIAPER. The 16th of July at 10am from Paseo de Moret, 3 (at Moncloa underground statio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04920" y="838080"/>
            <a:ext cx="8534160" cy="3446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62520" y="1066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NTO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8503400">
            <a:off x="3886200" y="1447560"/>
            <a:ext cx="304920" cy="152280"/>
          </a:xfrm>
          <a:prstGeom prst="left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588000" y="61657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ATERP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012000" y="60213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K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440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3881520"/>
            <a:ext cx="9144000" cy="2976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38080" y="35053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URE RESERVE OF CABARCE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3276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267080" y="3886200"/>
            <a:ext cx="4876920" cy="2971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9408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495680" y="3352680"/>
            <a:ext cx="441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19720" y="3352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VE OF SOP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227640" y="5589720"/>
            <a:ext cx="26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MP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11640" y="6165720"/>
            <a:ext cx="51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PTAIN FRANCISCO GONZALEZ NUÑ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70" name="3 Imagen" descr="BERRIA-SANTOÑA XX-50X70 SEPIA 1 copia copia.jpg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rot="1906200">
            <a:off x="1167840" y="351756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ACH OF BER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363640" y="1916280"/>
            <a:ext cx="36036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08720" y="155736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CC-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40360" y="3429000"/>
            <a:ext cx="792000" cy="144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35280" y="3213000"/>
            <a:ext cx="432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1 Imagen" descr="AEREA SANTOÑA-FOTO FONFRIA Nº1.tif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H="1">
            <a:off x="6659280" y="2421000"/>
            <a:ext cx="1297080" cy="28728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56720" y="2205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CC-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63244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NTOÑA Y MARI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9011600">
            <a:off x="-65880" y="143640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ACH OF BER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80520" y="1981080"/>
            <a:ext cx="22860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80880" y="2057400"/>
            <a:ext cx="130968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 Imagen" descr="SANTOÑA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763640" y="26028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19640" y="4365720"/>
            <a:ext cx="1008000" cy="57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27640" y="4869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CC-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21000">
            <a:off x="3579480" y="1449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ACH OF BER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1 Imagen" descr="PATRONATO MILIT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H="1">
            <a:off x="4419360" y="2286000"/>
            <a:ext cx="53316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CC-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1 Imagen" descr="patronat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1 Imagen" descr="_ON_01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35640" y="6019920"/>
            <a:ext cx="26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LAY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08:21:41Z</dcterms:created>
  <dc:creator>lmuemed</dc:creator>
  <dc:description/>
  <dc:language>en-US</dc:language>
  <cp:lastModifiedBy>ipelayof</cp:lastModifiedBy>
  <dcterms:modified xsi:type="dcterms:W3CDTF">2009-03-30T07:59:12Z</dcterms:modified>
  <cp:revision>43</cp:revision>
  <dc:subject/>
  <dc:title>Diapositiva 1</dc:title>
</cp:coreProperties>
</file>